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94C-560D-42A9-9C45-2C52CAA6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3A6-B580-4C85-834B-5135B57D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448-0422-40EE-B573-078A70B9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9BC-952D-4554-83D6-A682AA42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C61-2DC7-46BC-B4C3-2326233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51D-E033-4A32-828D-839A7F10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FE4-8CFC-44D9-B517-62F6ED9D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0CC-960B-4D9A-B6F4-9F2F856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C85-A7E5-42AD-B217-E3D01E6C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E3D-9E52-4A20-9533-A4017EB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ADA-475E-49CA-8F2A-9140AC7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97D-5C56-4EBF-8001-61EED79A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0D1B-941A-4512-8180-F3B85AA55C1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b050"/>
                </a:solidFill>
                <a:latin typeface="Calibri"/>
              </a:rPr>
              <a:t>LUGARES DE ENCUE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://1.bp.blogspot.com/-Zfaw5RF0wtI/TjCM0Pdy7oI/AAAAAAAAAxA/IwB3DUJj1WA/s1600/Pintura%2Bde%2BTissot%2B%25281880%2Baprox%2529.jpg"/>
          <p:cNvPicPr/>
          <p:nvPr/>
        </p:nvPicPr>
        <p:blipFill>
          <a:blip r:embed="rId1"/>
          <a:stretch/>
        </p:blipFill>
        <p:spPr>
          <a:xfrm>
            <a:off x="1547640" y="1413000"/>
            <a:ext cx="5964480" cy="408456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1258920" y="5516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1042920" y="5805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CuadroTexto"/>
          <p:cNvSpPr/>
          <p:nvPr/>
        </p:nvSpPr>
        <p:spPr>
          <a:xfrm>
            <a:off x="179280" y="1484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250920" y="19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87280" y="580500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5" descr="http://www.alternativaeducativa.com/tertulia.jpg"/>
          <p:cNvPicPr/>
          <p:nvPr/>
        </p:nvPicPr>
        <p:blipFill>
          <a:blip r:embed="rId1"/>
          <a:stretch/>
        </p:blipFill>
        <p:spPr>
          <a:xfrm>
            <a:off x="755640" y="260280"/>
            <a:ext cx="7416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jresnik\Desktop\9 DE JULIO\13.JPG"/>
          <p:cNvPicPr/>
          <p:nvPr/>
        </p:nvPicPr>
        <p:blipFill>
          <a:blip r:embed="rId1"/>
          <a:stretch/>
        </p:blipFill>
        <p:spPr>
          <a:xfrm>
            <a:off x="900000" y="549360"/>
            <a:ext cx="69868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80960" y="333360"/>
            <a:ext cx="7429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54446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580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9:11Z</dcterms:created>
  <dc:creator>Judith</dc:creator>
  <dc:description/>
  <dc:language>en-US</dc:language>
  <cp:lastModifiedBy>jresnik</cp:lastModifiedBy>
  <dcterms:modified xsi:type="dcterms:W3CDTF">2012-06-25T17:44:21Z</dcterms:modified>
  <cp:revision>7</cp:revision>
  <dc:subject/>
  <dc:title>ESCRIBÍ LO QUE VES EN LAS IMÁGENES</dc:title>
</cp:coreProperties>
</file>