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C1A-7613-4657-A444-176CBDF6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C8F-B539-47F6-9DA1-4298BDF6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894-3724-49A0-8B9D-BE33DED2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9FEF-2099-470C-A0EB-A5E92070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1DF-CDC2-4877-996E-5431528A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AA1-9F21-4DEC-966A-E61AAAE7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2F3-30E3-4ACF-B29B-90EC09C5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D18-C6D6-4F48-BFDF-6DB6CD5F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3C4-3AC0-46BC-A672-DDFE2A0D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A9A-F838-42D0-9A2B-E033A2B3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B1B-6A80-419D-8E58-B24F549C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C69-9382-431A-8E25-484EAFEE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6D81-9171-4CA1-8B2F-B89A01A3F190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b050"/>
                </a:solidFill>
                <a:latin typeface="Calibri"/>
              </a:rPr>
              <a:t>LUGARES DE ENCUEN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http://1.bp.blogspot.com/-Zfaw5RF0wtI/TjCM0Pdy7oI/AAAAAAAAAxA/IwB3DUJj1WA/s1600/Pintura%2Bde%2BTissot%2B%25281880%2Baprox%2529.jpg"/>
          <p:cNvPicPr/>
          <p:nvPr/>
        </p:nvPicPr>
        <p:blipFill>
          <a:blip r:embed="rId1"/>
          <a:stretch/>
        </p:blipFill>
        <p:spPr>
          <a:xfrm>
            <a:off x="1547640" y="1413000"/>
            <a:ext cx="5964480" cy="4084560"/>
          </a:xfrm>
          <a:prstGeom prst="rect">
            <a:avLst/>
          </a:prstGeom>
          <a:ln w="0">
            <a:noFill/>
          </a:ln>
        </p:spPr>
      </p:pic>
      <p:sp>
        <p:nvSpPr>
          <p:cNvPr id="43" name="5 CuadroTexto"/>
          <p:cNvSpPr/>
          <p:nvPr/>
        </p:nvSpPr>
        <p:spPr>
          <a:xfrm>
            <a:off x="1258920" y="551664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6 CuadroTexto"/>
          <p:cNvSpPr/>
          <p:nvPr/>
        </p:nvSpPr>
        <p:spPr>
          <a:xfrm>
            <a:off x="1042920" y="5805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7 CuadroTexto"/>
          <p:cNvSpPr/>
          <p:nvPr/>
        </p:nvSpPr>
        <p:spPr>
          <a:xfrm>
            <a:off x="179280" y="1484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CuadroTexto"/>
          <p:cNvSpPr/>
          <p:nvPr/>
        </p:nvSpPr>
        <p:spPr>
          <a:xfrm>
            <a:off x="250920" y="19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187280" y="5805000"/>
            <a:ext cx="64008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5" descr="http://www.alternativaeducativa.com/tertulia.jpg"/>
          <p:cNvPicPr/>
          <p:nvPr/>
        </p:nvPicPr>
        <p:blipFill>
          <a:blip r:embed="rId1"/>
          <a:stretch/>
        </p:blipFill>
        <p:spPr>
          <a:xfrm>
            <a:off x="755640" y="260280"/>
            <a:ext cx="74167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Users\jresnik\Desktop\9 DE JULIO\13.JPG"/>
          <p:cNvPicPr/>
          <p:nvPr/>
        </p:nvPicPr>
        <p:blipFill>
          <a:blip r:embed="rId1"/>
          <a:stretch/>
        </p:blipFill>
        <p:spPr>
          <a:xfrm>
            <a:off x="900000" y="549360"/>
            <a:ext cx="69868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80960" y="333360"/>
            <a:ext cx="7429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54446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580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21:19:11Z</dcterms:created>
  <dc:creator>Judith</dc:creator>
  <dc:description/>
  <dc:language>en-US</dc:language>
  <cp:lastModifiedBy>jresnik</cp:lastModifiedBy>
  <dcterms:modified xsi:type="dcterms:W3CDTF">2012-06-25T17:44:21Z</dcterms:modified>
  <cp:revision>7</cp:revision>
  <dc:subject/>
  <dc:title>ESCRIBÍ LO QUE VES EN LAS IMÁGENES</dc:title>
</cp:coreProperties>
</file>