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CA9-EE12-42F2-BE3C-6E83E8B2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159B-56BE-4996-8E65-A7F95591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040-C439-4C57-87AD-C6C4471D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7D07-B747-440E-A7AD-D854A293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64A-AEAA-4876-8B02-50C15C5E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7EFA-6210-4E1C-84AB-04799391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8E0-E799-4BAE-B3A5-3B72862C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F54-9B7C-4DA8-A0C9-BD6F2FB7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5B6-B9BF-4F77-8EB4-1F315A9F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0C32-0555-4AFA-A9CD-BF27E84A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DC0-8E71-45C8-A80F-45939EC2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0A0-0246-4E17-A139-E62CD2F1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67DA-278C-4B47-ADAC-A57C05AC444A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b050"/>
                </a:solidFill>
                <a:latin typeface="Calibri"/>
              </a:rPr>
              <a:t>LUGARES DE ENCUEN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http://1.bp.blogspot.com/-Zfaw5RF0wtI/TjCM0Pdy7oI/AAAAAAAAAxA/IwB3DUJj1WA/s1600/Pintura%2Bde%2BTissot%2B%25281880%2Baprox%2529.jpg"/>
          <p:cNvPicPr/>
          <p:nvPr/>
        </p:nvPicPr>
        <p:blipFill>
          <a:blip r:embed="rId1"/>
          <a:stretch/>
        </p:blipFill>
        <p:spPr>
          <a:xfrm>
            <a:off x="1547640" y="1413000"/>
            <a:ext cx="5964480" cy="4084560"/>
          </a:xfrm>
          <a:prstGeom prst="rect">
            <a:avLst/>
          </a:prstGeom>
          <a:ln w="0">
            <a:noFill/>
          </a:ln>
        </p:spPr>
      </p:pic>
      <p:sp>
        <p:nvSpPr>
          <p:cNvPr id="43" name="5 CuadroTexto"/>
          <p:cNvSpPr/>
          <p:nvPr/>
        </p:nvSpPr>
        <p:spPr>
          <a:xfrm>
            <a:off x="1258920" y="551664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6 CuadroTexto"/>
          <p:cNvSpPr/>
          <p:nvPr/>
        </p:nvSpPr>
        <p:spPr>
          <a:xfrm>
            <a:off x="1042920" y="58053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7 CuadroTexto"/>
          <p:cNvSpPr/>
          <p:nvPr/>
        </p:nvSpPr>
        <p:spPr>
          <a:xfrm>
            <a:off x="179280" y="14842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NOM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CuadroTexto"/>
          <p:cNvSpPr/>
          <p:nvPr/>
        </p:nvSpPr>
        <p:spPr>
          <a:xfrm>
            <a:off x="250920" y="19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187280" y="5805000"/>
            <a:ext cx="64008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5" descr="http://www.alternativaeducativa.com/tertulia.jpg"/>
          <p:cNvPicPr/>
          <p:nvPr/>
        </p:nvPicPr>
        <p:blipFill>
          <a:blip r:embed="rId1"/>
          <a:stretch/>
        </p:blipFill>
        <p:spPr>
          <a:xfrm>
            <a:off x="755640" y="260280"/>
            <a:ext cx="74167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:\Users\jresnik\Desktop\9 DE JULIO\13.JPG"/>
          <p:cNvPicPr/>
          <p:nvPr/>
        </p:nvPicPr>
        <p:blipFill>
          <a:blip r:embed="rId1"/>
          <a:stretch/>
        </p:blipFill>
        <p:spPr>
          <a:xfrm>
            <a:off x="900000" y="549360"/>
            <a:ext cx="698688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80960" y="333360"/>
            <a:ext cx="7429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54446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580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21:19:11Z</dcterms:created>
  <dc:creator>Judith</dc:creator>
  <dc:description/>
  <dc:language>en-US</dc:language>
  <cp:lastModifiedBy>jresnik</cp:lastModifiedBy>
  <dcterms:modified xsi:type="dcterms:W3CDTF">2012-06-25T17:44:21Z</dcterms:modified>
  <cp:revision>7</cp:revision>
  <dc:subject/>
  <dc:title>ESCRIBÍ LO QUE VES EN LAS IMÁGENES</dc:title>
</cp:coreProperties>
</file>