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56D-7B09-4C7C-B02E-CAC474FE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FA2-FF14-4543-AA7F-AC5D5538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BCE-B213-451F-A6E9-39206E63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28C-B903-43DD-AB4E-1EE45D2C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6A0-DE5F-43AB-BB42-BCB89F73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5AB-9F39-49BB-BF30-91EA6D8A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CC0-C643-4224-A76F-44ED03A4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489-B6DF-41A7-92F3-4308F096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0BE-5E67-4C0C-B261-16FCFBB9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3C5-F7B6-4DDB-9A9F-17DB2E67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5E9-0117-495B-B258-6E7B110B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91A-03C1-4D99-A3B9-948463A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3972-1257-4904-AB86-A15358E2A51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b050"/>
                </a:solidFill>
                <a:latin typeface="Calibri"/>
              </a:rPr>
              <a:t>LUGARES DE ENCUE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http://1.bp.blogspot.com/-Zfaw5RF0wtI/TjCM0Pdy7oI/AAAAAAAAAxA/IwB3DUJj1WA/s1600/Pintura%2Bde%2BTissot%2B%25281880%2Baprox%2529.jpg"/>
          <p:cNvPicPr/>
          <p:nvPr/>
        </p:nvPicPr>
        <p:blipFill>
          <a:blip r:embed="rId1"/>
          <a:stretch/>
        </p:blipFill>
        <p:spPr>
          <a:xfrm>
            <a:off x="1547640" y="1413000"/>
            <a:ext cx="5964480" cy="408456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>
            <a:off x="1258920" y="5516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1042920" y="5805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7 CuadroTexto"/>
          <p:cNvSpPr/>
          <p:nvPr/>
        </p:nvSpPr>
        <p:spPr>
          <a:xfrm>
            <a:off x="179280" y="1484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250920" y="19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87280" y="580500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5" descr="http://www.alternativaeducativa.com/tertulia.jpg"/>
          <p:cNvPicPr/>
          <p:nvPr/>
        </p:nvPicPr>
        <p:blipFill>
          <a:blip r:embed="rId1"/>
          <a:stretch/>
        </p:blipFill>
        <p:spPr>
          <a:xfrm>
            <a:off x="755640" y="260280"/>
            <a:ext cx="74167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jresnik\Desktop\9 DE JULIO\13.JPG"/>
          <p:cNvPicPr/>
          <p:nvPr/>
        </p:nvPicPr>
        <p:blipFill>
          <a:blip r:embed="rId1"/>
          <a:stretch/>
        </p:blipFill>
        <p:spPr>
          <a:xfrm>
            <a:off x="900000" y="549360"/>
            <a:ext cx="69868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80960" y="333360"/>
            <a:ext cx="7429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54446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580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1:19:11Z</dcterms:created>
  <dc:creator>Judith</dc:creator>
  <dc:description/>
  <dc:language>en-US</dc:language>
  <cp:lastModifiedBy>jresnik</cp:lastModifiedBy>
  <dcterms:modified xsi:type="dcterms:W3CDTF">2012-06-25T17:44:21Z</dcterms:modified>
  <cp:revision>7</cp:revision>
  <dc:subject/>
  <dc:title>ESCRIBÍ LO QUE VES EN LAS IMÁGENES</dc:title>
</cp:coreProperties>
</file>