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853-1410-4D63-B2A0-CAB12BDD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09A-05CA-4F67-9F9B-416822E1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02F-88F3-4F74-A97D-9BEB0444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2C2-1D72-413D-9B14-85BF48A7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728-B5EB-422C-B69A-3B48BE28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C9C-F139-4AF6-8139-FD3E2187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6CC-9AC5-43B4-8E69-647ECAEB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6FE-2F05-4A73-8E77-ECE38A2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F31-D43D-45EE-91BA-CE2D068A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33D-6A1F-4310-B340-30442388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C8F-6C37-4539-91D0-C955D260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B71-69A0-4A53-B5B7-BEAA7504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2252-DD79-444E-A041-2FB5EF635B1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b050"/>
                </a:solidFill>
                <a:latin typeface="Calibri"/>
              </a:rPr>
              <a:t>LUGARES DE ENCUE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http://1.bp.blogspot.com/-Zfaw5RF0wtI/TjCM0Pdy7oI/AAAAAAAAAxA/IwB3DUJj1WA/s1600/Pintura%2Bde%2BTissot%2B%25281880%2Baprox%2529.jpg"/>
          <p:cNvPicPr/>
          <p:nvPr/>
        </p:nvPicPr>
        <p:blipFill>
          <a:blip r:embed="rId1"/>
          <a:stretch/>
        </p:blipFill>
        <p:spPr>
          <a:xfrm>
            <a:off x="1547640" y="1413000"/>
            <a:ext cx="5964480" cy="408456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>
            <a:off x="1258920" y="5516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1042920" y="5805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7 CuadroTexto"/>
          <p:cNvSpPr/>
          <p:nvPr/>
        </p:nvSpPr>
        <p:spPr>
          <a:xfrm>
            <a:off x="179280" y="1484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250920" y="19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87280" y="580500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5" descr="http://www.alternativaeducativa.com/tertulia.jpg"/>
          <p:cNvPicPr/>
          <p:nvPr/>
        </p:nvPicPr>
        <p:blipFill>
          <a:blip r:embed="rId1"/>
          <a:stretch/>
        </p:blipFill>
        <p:spPr>
          <a:xfrm>
            <a:off x="755640" y="260280"/>
            <a:ext cx="74167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jresnik\Desktop\9 DE JULIO\13.JPG"/>
          <p:cNvPicPr/>
          <p:nvPr/>
        </p:nvPicPr>
        <p:blipFill>
          <a:blip r:embed="rId1"/>
          <a:stretch/>
        </p:blipFill>
        <p:spPr>
          <a:xfrm>
            <a:off x="900000" y="549360"/>
            <a:ext cx="69868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80960" y="333360"/>
            <a:ext cx="7429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54446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580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1:19:11Z</dcterms:created>
  <dc:creator>Judith</dc:creator>
  <dc:description/>
  <dc:language>en-US</dc:language>
  <cp:lastModifiedBy>jresnik</cp:lastModifiedBy>
  <dcterms:modified xsi:type="dcterms:W3CDTF">2012-06-25T17:44:21Z</dcterms:modified>
  <cp:revision>7</cp:revision>
  <dc:subject/>
  <dc:title>ESCRIBÍ LO QUE VES EN LAS IMÁGENES</dc:title>
</cp:coreProperties>
</file>